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8CAD9-FC4A-4D19-A9DB-A8723257D3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A9975-D762-412B-8212-2B74E49B5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FDF20-C351-42B7-8214-86752E561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DA315-9879-4627-A812-38A2261AE52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300F9-8E4D-4092-9EBE-69AA2AFDC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8B268-7773-4B17-928F-69C810CED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AE6D8-431F-426C-A885-9C46002B3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CEE34-294D-4B79-9658-2415B1E78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6FCBB-1B1B-408A-8938-B67DF756C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B7D1E-017A-43D3-A6CB-ADC2FF1D4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3EA95-CE5E-434C-8BD0-CCEE9E119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CBA5B-4B49-4041-9B0F-037E0F17A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285A5-3A64-491B-A1E3-18439355DD8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619280" y="2349360"/>
            <a:ext cx="6408720" cy="11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第二节  一般状态评估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四、营养状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营养状态的评估方法   营养状态可依据皮肤、毛发、皮下脂肪、肌肉情况，结合年龄、身高、体重等综合判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测量体重：测量一定时间内体重的增减是观察营养状态的常用方法之一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成人的理想体重可用下列公式粗略计算：理想体重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kg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=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身高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m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-10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。一般认为体重在标准体重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±10 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范围内为正常；超过理想体重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 %~20 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超重，超过理想体重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 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以上为肥胖；低于理想体重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 %~20 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消瘦，低于理想体重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 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以上为明显消瘦，极度消瘦称为恶病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体质指数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MI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ody mass index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计算方法为：体质指数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MI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＝体重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kg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÷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身高平方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m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en-US" sz="2800" spc="-1" strike="noStrike" baseline="30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我国成人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MI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的正常范围为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8.5~2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MI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＜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8.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消瘦，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4.0~27.9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超重，≥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8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肥胖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皮褶厚度：常用测量部位有：肱三头肌、肩胛下和脐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5" name="Picture 4" descr="皮下脂肪检查1"/>
          <p:cNvPicPr/>
          <p:nvPr/>
        </p:nvPicPr>
        <p:blipFill>
          <a:blip r:embed="rId1"/>
          <a:stretch/>
        </p:blipFill>
        <p:spPr>
          <a:xfrm>
            <a:off x="1042920" y="4653000"/>
            <a:ext cx="2516400" cy="1857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皮下脂肪检查2"/>
          <p:cNvPicPr/>
          <p:nvPr/>
        </p:nvPicPr>
        <p:blipFill>
          <a:blip r:embed="rId2"/>
          <a:stretch/>
        </p:blipFill>
        <p:spPr>
          <a:xfrm>
            <a:off x="3780000" y="4581360"/>
            <a:ext cx="277164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综合判断 临床通常以皮肤黏膜、毛发、皮下脂肪及肌肉发育状况对营养状态作出综合判断，以营养良好、营养中等、营养不良三个等级来描述。</a:t>
            </a:r>
            <a:br>
              <a:rPr sz="2800"/>
            </a:b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营养良好：皮肤黏膜红润、皮肤光泽、弹性好，指甲、毛发润泽，皮下脂肪丰满，肌肉结实，肩胛部及股部肌肉丰满。</a:t>
            </a:r>
            <a:br>
              <a:rPr sz="2800"/>
            </a:b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营养不良：皮肤黏膜干燥、弹性减低，毛发稀疏，指甲粗糙无光泽，皮下脂肪菲薄，肌肉松弛无力，肩胛骨、髂骨嶙峋突出。</a:t>
            </a:r>
            <a:br>
              <a:rPr sz="2800"/>
            </a:b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营养中等：介于良好和不良之间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5335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异常营养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营养不良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营养过度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肥胖包括单纯性肥胖和继发性肥胖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2364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五、意识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意识状态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consciousnes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大脑皮质功能活动的综合表现。正常人意识清晰，反应敏捷精确，思维活动正常，语言流畅、准确，言能达意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常见的意识障碍有：嗜睡、意识模糊、昏睡、谵妄、昏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六、面容与表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面容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facial feature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与表情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expression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评价个体情绪状态和身体状况的重要指标。健康人表情自然、神态安逸。疾病可使人的面容与表情发生变化，某些疾病发展到一定程度时，可出现特征性的面容与表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250920" y="1628280"/>
            <a:ext cx="507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常见的典型病容如下：</a:t>
            </a:r>
            <a:br>
              <a:rPr sz="2400"/>
            </a:b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急性病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慢性病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状腺功能亢进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黏液性水肿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二尖瓣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肢端肥大症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满月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148360" y="2636640"/>
            <a:ext cx="32400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面具面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脱水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贫血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肝病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肾病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3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病危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七、体位与步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位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position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指个体身体在卧位时所处的状态。疾病常可使体位发生改变。常见体位如下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自动体位  身体活动自如，不受限制。见于正常人、轻症患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被动体位  不能随意调整或变换体位。见于意识丧失或极度衰弱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强迫体位  为减轻疾病痛苦被迫采取的体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97164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步态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gai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走动时所表现的姿势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常见异常步态如下：</a:t>
            </a:r>
            <a:br>
              <a:rPr sz="2800"/>
            </a:b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蹒跚步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醉酒步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慌张步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共济失调步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跨阈步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剪刀步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间歇性跛行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全身一般状态评估是对患者全身状况的概括性观察。全身一般状态评估方法以视诊为主，有时需配合触诊或借助体温表、血压计、听诊器等进行检查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评估内容包括性别、年龄、生命体征、发育与体型、营养、意识状态、面容与表情、体位与步态。掌握正常表现，熟悉异常改变及其临床意义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性别与年龄 性别通常以生殖器与第二性征的发育情况来区别。评估时注意年龄同某些疾病发生与预后的关系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生命体征 是标志生命活动存在与质量的重要征象。其内容包括体温、脉搏、呼吸、血压，是观察患者病情变化的重要指标之一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营养状态的评估方法 营养状态可依据皮肤、毛发、皮下脂肪、肌肉情况，结合年龄、身高、体重等综合判断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意识状态 意识状态是大脑皮质功能活动的综合表现。意识障碍的表现有：嗜睡、意识模糊、昏睡、昏迷、谵妄等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7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面容与表情 是评价个体情绪状态和身体状况的重要指标。临床常见的典型病容如下：急性病容、慢性病容、甲状腺功能亢进面容、黏液性水肿面容、二尖瓣面容、肢端肥大症面容、满月面容、面具面容、脱水面容、贫血面容、肝病面容、肾病面容、病危面容。</a:t>
            </a:r>
            <a:br>
              <a:rPr sz="1800"/>
            </a:b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8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体位 是指个体身体在卧位时所处的状态。常见体位有：自动体位、被动体位、强迫体位。步态是走动时所表现的姿势。常见异常步态如下：蹒跚步态、醉酒步态、慌张步态、共济失调步态、跨阈步态、剪刀步态、间歇性跛行。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目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1547640" y="1557360"/>
            <a:ext cx="8610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844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描述一般状态评估的主要内容、正常表现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说明一般状态评估常见异常改变及其临床意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进行一般状态的评估，并准确描述评估所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78920" y="162828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全身一般状态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general body state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评估是对患者全身状况的概括性观察。评估方法以视诊为主，有时需配合触诊或借助体温表、血压计、听诊器等进行检查。评估内容包括性别、年龄、生命体征、发育与体型、营养、意识状态、面容与表情、体位与步态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性别与年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性别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sex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通常以生殖器与第二性征的发育情况来区别。正常成人男女性征明显，不难判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异常发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某些疾病对性征的影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性染色体异常对性征的影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性别与某些疾病发病率之间的关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性别与年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年龄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ge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评估时注意年龄同某些疾病发生与预后的关系，如佝偻病、麻疹、白喉等多见于幼儿与儿童；结核病、风湿热等多见于青、少年；动脉硬化、冠心病等多发生于老年人。青年患病后易康复，老年人则相对较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4" name="Picture 4" descr="59c9142e3696cf5d4fc226b0"/>
          <p:cNvPicPr/>
          <p:nvPr/>
        </p:nvPicPr>
        <p:blipFill>
          <a:blip r:embed="rId1"/>
          <a:stretch/>
        </p:blipFill>
        <p:spPr>
          <a:xfrm>
            <a:off x="468360" y="4508640"/>
            <a:ext cx="2158920" cy="1973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246880"/>
          <p:cNvPicPr/>
          <p:nvPr/>
        </p:nvPicPr>
        <p:blipFill>
          <a:blip r:embed="rId2"/>
          <a:stretch/>
        </p:blipFill>
        <p:spPr>
          <a:xfrm>
            <a:off x="2843280" y="4508640"/>
            <a:ext cx="2539800" cy="1915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8"/>
          <p:cNvPicPr/>
          <p:nvPr/>
        </p:nvPicPr>
        <p:blipFill>
          <a:blip r:embed="rId3"/>
          <a:stretch/>
        </p:blipFill>
        <p:spPr>
          <a:xfrm>
            <a:off x="5651640" y="4508640"/>
            <a:ext cx="2154240" cy="1954080"/>
          </a:xfrm>
          <a:prstGeom prst="rect">
            <a:avLst/>
          </a:prstGeom>
          <a:ln w="2556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生命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生命体征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vital sign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标志生命活动存在与质量的重要征象。其内容包括体温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body temperature)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、脉搏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pulse)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、呼吸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respiration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和血压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blood pressure)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是观察患者病情变化的重要指标之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8" name="Picture 4" descr="20091129452953916192"/>
          <p:cNvPicPr/>
          <p:nvPr/>
        </p:nvPicPr>
        <p:blipFill>
          <a:blip r:embed="rId1"/>
          <a:stretch/>
        </p:blipFill>
        <p:spPr>
          <a:xfrm>
            <a:off x="324000" y="4292640"/>
            <a:ext cx="2885760" cy="2165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10000400_G_1239341350550"/>
          <p:cNvPicPr/>
          <p:nvPr/>
        </p:nvPicPr>
        <p:blipFill>
          <a:blip r:embed="rId2"/>
          <a:stretch/>
        </p:blipFill>
        <p:spPr>
          <a:xfrm>
            <a:off x="4140360" y="4149720"/>
            <a:ext cx="259236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发育与体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育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evelopmen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成人发育正常的判断指标包括：头部长度为身高的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/8~1/7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胸围为身高的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/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坐高等于下肢的长度，两上肢展开的长度约等于身高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79280" y="1371240"/>
            <a:ext cx="518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体型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habitus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临床上将正常体型分为三种类型：</a:t>
            </a:r>
            <a:br>
              <a:rPr sz="2400"/>
            </a:b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瘦长型（无力型）：身高肌瘦、颈长肩窄、胸廓扁平，腹上角小于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br>
              <a:rPr sz="2400"/>
            </a:b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矮胖型（超力型）：身短粗壮、颈粗肩宽、胸廓宽厚，腹上角大于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br>
              <a:rPr sz="2400"/>
            </a:b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均称型（正力型）：身体各部匀称适中，腹上角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左右。此型较多见。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5364000" y="2060640"/>
            <a:ext cx="335772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8:28:10Z</dcterms:modified>
  <cp:revision>138</cp:revision>
  <dc:subject/>
  <dc:title>内科护理学</dc:title>
</cp:coreProperties>
</file>